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8.jpeg" ContentType="image/jpeg"/>
  <Override PartName="/ppt/media/image12.png" ContentType="image/png"/>
  <Override PartName="/ppt/media/image2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3.wmf" ContentType="image/x-wmf"/>
  <Override PartName="/ppt/media/image18.jpeg" ContentType="image/jpeg"/>
  <Override PartName="/ppt/media/image21.gif" ContentType="image/gif"/>
  <Override PartName="/ppt/media/image19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F49-A9DC-4D60-BC4A-66A29C8A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C18-E2EE-40DD-8D5A-C60F1746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E6E-E384-4C2A-AB0A-9B6070ED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3F6-CD68-4DB3-A109-F644004A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7044-E2D9-4612-9FDF-AC6DCFB4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5880-CDA4-44CC-9738-EFCC45E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EBA1-6143-47C9-BFDB-B987389C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BE1-7DDD-4BE5-97A8-9DDF596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47C-67FD-4E94-8F04-19877D3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ED75-F02D-4493-9C7D-5435F50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D31-C177-4F44-9D83-0C13895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61A-B0DF-45F7-9626-DD2EEC3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E7CE-2997-4B19-BCE7-8C861EA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04C-06DA-40F6-B64A-61A2806E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560-9BF3-4218-8287-F3F8280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B6D-73FC-4380-8B02-53775A78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229-B01A-4124-9F40-C5DF9CC4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57B7A-0E20-4A8F-88E3-B1C9C1A6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BAF41-BB0F-4AA5-AC10-08839C8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88FEF-5934-425F-B2D4-AA41998E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E54F9-930C-4B30-86BA-5C27344A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1B3EC-B9ED-4EA7-B768-F918CF6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A0E-D391-4790-9B08-49945B0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79E66-940A-464E-BE17-1716973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9B74F-67CC-4DA1-BEDF-3CD9708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ED611-0A5D-4BD1-AF80-3F57BB1B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9FC2C-68E2-4F60-AAC4-4DC9D62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A24C9-A105-4779-994C-9291B7A3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A09D6-CE64-4ED3-B978-A87A4813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CB8A9-C988-4D70-A699-F4F995C7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BFB1-8772-46AA-B1FA-E512D8B5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65DE-9285-495A-94B7-A4918D7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1E80-E96A-494B-BF79-EECD22C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407-29ED-40C9-BC18-99F43A8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42F0-4BCF-4EF3-8074-AEAA4E10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6007-955F-4D8B-A569-1EC27055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F2C8-9B13-4488-8AEF-A22356B2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E0EE-2F93-4409-9167-E43A26E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2622-9CD3-42DA-9F00-F449754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3DB1-DC7C-4AAA-BEA9-D171950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8C34-2C74-4DE1-B28B-2FA8C991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B85DE-926C-4AC0-B03A-B31BAA78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3AEB-83AA-403C-84B4-9EFE2374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C00F-D9B4-480C-953A-450E1E81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DE4-3724-403C-8DB9-864F1BD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7A0A-6BE2-4CFB-B3D5-A61A0E8E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7C92-A693-48AF-8CC2-BF7186DD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AE9F-E459-400B-BF06-0A16864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02B3-59E6-4E0F-964F-31404EA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140C-70A3-4B90-AECC-C6D2A12A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409F-1CF9-4A74-87D5-CEB728B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F5796-907C-4452-815A-1BBCBD1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8590-C1C4-4F13-A709-5FD8C0C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8627-4E86-480C-9BB1-9D0E8CFC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54DC-74B4-40C5-915D-24E47002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9D0-0382-428D-8E5C-0D3FA951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04E4-0458-4122-AFF1-36C8156C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367F-F7D9-487E-BA63-5E992F3E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722F-F15E-4425-A6E8-611410A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4550F-2EE1-4135-BBDC-C4C06926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F389-E7DD-4DEF-863C-39DBE8B5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39D1-45E9-479E-A983-E77A692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ED94-9D5E-44D1-9600-5661E30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4FD4-76DB-468B-A60C-A3091E4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BF35-7281-430F-8A42-D0FE7F2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B2AA-B397-4DBD-87DB-8ED0DB2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2FE-CFCE-40DF-9919-37076D7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16F3-4EBE-45C2-A242-302F8B5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8BEF-8BE8-4778-B69E-0C9AAAF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316E-C83F-4572-935A-D491BD8D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23EE-521D-412B-A4BC-5D1D5D13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7848-B1B5-4806-AEEA-CEB07C48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956E-DA66-4A00-B213-18E8508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4E9B-7368-4108-AA71-4622ACF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BFF1-943A-4E67-8791-B4B2622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13DB-DB1A-4FDB-A530-57E48B9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F495B-A2B9-447A-9D12-01AA5E9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A5F-D3EE-4943-9D92-6A98E6C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5FB7C-DE2E-4301-91B6-EF8C463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9722-0FC6-4819-BE00-2B823ED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777A-5509-4AAD-87C3-9D10D574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CC37-08FD-417D-B9E4-1BD6488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35FD-F646-49C7-A8F0-4D421B5C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923-72BA-4CFD-8A33-0A67D1F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2E6-9EBB-407F-AA93-6A46F80F49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BEE-5284-44BF-A878-67E38A9A4129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F2D-DBAD-4C9F-8E5D-7EC951328B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8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386B-E889-4169-BABC-7C5FD9AA7C5C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3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ADD-6169-4605-9E90-3CCB767F4F4B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5AC-F6AD-42B1-ADBC-39207B9EBC0A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CAB-6F03-4CD2-923F-5878E759B109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images.google.com.eg/imgres?imgurl=http://pcs.fares.net/images2/usa7.gif&amp;imgrefurl=http://ecards.fares.net/ar/Around_The_World/United_States/&amp;h=300&amp;w=290&amp;sz=61&amp;hl=en&amp;start=4&amp;tbnid=B3ySLAyzyYRTZM:&amp;tbnh=111&amp;tbnw=107&amp;prev=/images%3Fq%3D%25D8%25A7%25D9%2584%25D9%2588%25D9%2584%25D8%25A7%25D9%258A%25D8%25A7%25D8%25AA%2B%25D8%25A7%25D9%2584%25D9%2585%25D8%25AA%25D8%25AD%25D8%25AF%25D8%25A9%26svnum%3D10%26hl%3Den%26lr%3D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eg/imgres?imgurl=http://www.aljazeera.net/mritems/images/2001/1/15/image_map320_6.jpg&amp;imgrefurl=http://www.aljazeera.net/in-depth/iraq_countdown/2002/7/7-30-13.htm&amp;h=250&amp;w=350&amp;sz=29&amp;hl=en&amp;start=3&amp;tbnid=mmTGnl7WLSEsDM:&amp;tbnh=82&amp;tbnw=116&amp;prev=/images%3Fq%3D%25D8%25A7%25D9%2584%25D9%2588%25D9%2584%25D8%25A7%25D9%258A%25D8%25A7%25D8%25AA%2B%25D8%25A7%25D9%2584%25D9%2585%25D8%25AA%25D8%25AD%25D8%25AF%25D8%25A9%26svnum%3D10%26hl%3Den%26lr%3D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2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hyperlink" Target="http://images.google.com.eg/imgres?imgurl=http://www.tzafonet.org.il/kehil/bostanokom/milad/miald2004/milad1/Picture2a.gif&amp;imgrefurl=http://www.tzafonet.org.il/kehil/bostanokom/milad/miald2004/milad1/kisat.html&amp;h=173&amp;w=166&amp;sz=5&amp;hl=en&amp;start=2&amp;tbnid=G-9YsFuHk3KJqM:&amp;tbnh=94&amp;tbnw=90&amp;prev=/images%3Fq%3D%25D8%25A8%25D8%25A7%25D8%25A8%25D8%25A7%2B%25D9%2586%25D9%2588%25D9%258A%25D9%2584%26svnum%3D10%26hl%3Den%26lr%3D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ac66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j0168448"/>
          <p:cNvPicPr/>
          <p:nvPr/>
        </p:nvPicPr>
        <p:blipFill>
          <a:blip r:embed="rId1"/>
          <a:stretch/>
        </p:blipFill>
        <p:spPr>
          <a:xfrm>
            <a:off x="0" y="404640"/>
            <a:ext cx="3059280" cy="194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usa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2920" y="3521160"/>
            <a:ext cx="2521080" cy="3336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image_map320_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76280"/>
            <a:ext cx="4103640" cy="28796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4" descr=""/>
          <p:cNvPicPr/>
          <p:nvPr/>
        </p:nvPicPr>
        <p:blipFill>
          <a:blip r:embed="rId6"/>
          <a:stretch/>
        </p:blipFill>
        <p:spPr>
          <a:xfrm>
            <a:off x="-103320" y="1981080"/>
            <a:ext cx="7991640" cy="1889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-108000" y="4843440"/>
            <a:ext cx="67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  <a:cs typeface="Monotype Koufi"/>
              </a:rPr>
              <a:t>ساندي وائل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  <a:cs typeface="Monotype Koufi"/>
              </a:rPr>
              <a:t>هانيا خالد                   سما حات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403280" y="3933720"/>
            <a:ext cx="352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ffffff"/>
                </a:solidFill>
                <a:uFillTx/>
                <a:latin typeface="Tahoma"/>
              </a:rPr>
              <a:t>اعداد الطالبات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SLOW MUSIC - 14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5"/>
          <p:cNvSpPr/>
          <p:nvPr/>
        </p:nvSpPr>
        <p:spPr>
          <a:xfrm>
            <a:off x="2050920" y="333360"/>
            <a:ext cx="6408720" cy="3382920"/>
          </a:xfrm>
          <a:prstGeom prst="cloudCallout">
            <a:avLst>
              <a:gd name="adj1" fmla="val -39175"/>
              <a:gd name="adj2" fmla="val 5309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كرتيني بالحرب الاهلية في عهد أبرا هام لنكولن علشان الغاء إلغاء الرق</a:t>
            </a: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 المساواة بين البيض والسود</a:t>
            </a: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 و الدستور الأمريكي ينص علي المساو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Picture 6" descr="Picture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60640"/>
            <a:ext cx="5003640" cy="4797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images[57]"/>
          <p:cNvPicPr/>
          <p:nvPr/>
        </p:nvPicPr>
        <p:blipFill>
          <a:blip r:embed="rId3"/>
          <a:stretch/>
        </p:blipFill>
        <p:spPr>
          <a:xfrm>
            <a:off x="4067280" y="692280"/>
            <a:ext cx="2617560" cy="2881080"/>
          </a:xfrm>
          <a:prstGeom prst="rect">
            <a:avLst/>
          </a:prstGeom>
          <a:ln w="0">
            <a:noFill/>
          </a:ln>
        </p:spPr>
      </p:pic>
      <p:pic>
        <p:nvPicPr>
          <p:cNvPr id="344" name="SLOW MUSIC - Love Story 2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Picture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620640"/>
            <a:ext cx="4032000" cy="53294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4d"/>
                </a:solidFill>
                <a:latin typeface="Tahoma"/>
              </a:rPr>
              <a:t>وبعد كده أصبحت القوة الأولي</a:t>
            </a:r>
            <a:br>
              <a:rPr sz="4400"/>
            </a:br>
            <a:r>
              <a:rPr b="1" lang="ar-SA" sz="4400" spc="-1" strike="noStrike">
                <a:solidFill>
                  <a:srgbClr val="00004d"/>
                </a:solidFill>
                <a:latin typeface="Tahoma"/>
              </a:rPr>
              <a:t> في العالم بسب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19280" y="1773360"/>
            <a:ext cx="5267160" cy="4897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الموقع الجغرافي المتمي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 تنوع الأقاليم المناخية مما أدى إلي تنوع المحاصي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 أتساع مساحة الولايات المتحدة حيث تبلغ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9.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 مليون كم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onotype Koufi"/>
              </a:rPr>
              <a:t>  وفرة الموارد المائية وخصوبة التربة وتنوع موارد الإنتاج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نشاط السكان وإبداعهم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Monotype Kouf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namerica_map1"/>
          <p:cNvPicPr/>
          <p:nvPr/>
        </p:nvPicPr>
        <p:blipFill>
          <a:blip r:embed="rId1"/>
          <a:stretch/>
        </p:blipFill>
        <p:spPr>
          <a:xfrm>
            <a:off x="46836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4930920" y="521496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حيط الاطلنط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788000" y="434988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حيط الها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5584680" y="3789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كند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5796000" y="60055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خليج المكسي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274920" y="6005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مكسي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456000" y="5556240"/>
            <a:ext cx="5688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جنوب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--- 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خليج المكسيك ودولة المكسيك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15"/>
          <p:cNvSpPr/>
          <p:nvPr/>
        </p:nvSpPr>
        <p:spPr>
          <a:xfrm>
            <a:off x="3276720" y="333360"/>
            <a:ext cx="338292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66"/>
                </a:solidFill>
                <a:uFillTx/>
                <a:latin typeface="Tahoma"/>
              </a:rPr>
              <a:t>الموق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219640" y="1419120"/>
            <a:ext cx="34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Tahoma"/>
              </a:rPr>
              <a:t>الموقع الفلكي :-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تمتد الولايات المتحدة بين دائرتي عرض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25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ْ و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48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 ْ ش 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آي تضم 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23</a:t>
            </a:r>
            <a:r>
              <a:rPr b="0" lang="ar-EG" sz="2800" spc="-1" strike="noStrike">
                <a:solidFill>
                  <a:srgbClr val="ff0066"/>
                </a:solidFill>
                <a:latin typeface="Tahoma"/>
              </a:rPr>
              <a:t> دائر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Picture 17" descr="Picture2a"/>
          <p:cNvPicPr/>
          <p:nvPr/>
        </p:nvPicPr>
        <p:blipFill>
          <a:blip r:embed="rId2"/>
          <a:stretch/>
        </p:blipFill>
        <p:spPr>
          <a:xfrm>
            <a:off x="0" y="5560920"/>
            <a:ext cx="2519280" cy="1297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4357800" y="3213000"/>
            <a:ext cx="453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66"/>
                </a:solidFill>
                <a:latin typeface="Tahoma"/>
              </a:rPr>
              <a:t>الحدو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شمال -------- كند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4932360" y="43498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غرب -------- المحيط الها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3924360" y="52149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</a:rPr>
              <a:t>الشرق -------- المحيط الأطلنط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-0.46128 -0.12176 E">
                                      <p:cBhvr>
                                        <p:cTn id="277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-0.58663 -0.08796 E">
                                      <p:cBhvr>
                                        <p:cTn id="28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2523 L -0.16927 -0.22454 E">
                                      <p:cBhvr>
                                        <p:cTn id="295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1436 L -0.38194 -0.17199 E">
                                      <p:cBhvr>
                                        <p:cTn id="30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9" nodeType="afterEffect" fill="hold" presetClass="path" presetID="35" repeatCount="1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4.07407E-006 L -0.24011 -0.22454 E">
                                      <p:cBhvr>
                                        <p:cTn id="31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5616720" cy="395928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3"/>
          <p:cNvSpPr/>
          <p:nvPr/>
        </p:nvSpPr>
        <p:spPr>
          <a:xfrm rot="21469200">
            <a:off x="5221080" y="1341360"/>
            <a:ext cx="3887640" cy="1582920"/>
          </a:xfrm>
          <a:prstGeom prst="wedgeRoundRectCallout">
            <a:avLst>
              <a:gd name="adj1" fmla="val -78962"/>
              <a:gd name="adj2" fmla="val 101935"/>
              <a:gd name="adj3" fmla="val 16667"/>
            </a:avLst>
          </a:prstGeom>
          <a:solidFill>
            <a:srgbClr val="ff0066"/>
          </a:solidFill>
          <a:ln w="76320">
            <a:solidFill>
              <a:srgbClr val="66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</a:rPr>
              <a:t>ها نوصل امتي يا بابا نوي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2143080" y="3071880"/>
            <a:ext cx="3527640" cy="239688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3"/>
          <p:cNvSpPr/>
          <p:nvPr/>
        </p:nvSpPr>
        <p:spPr>
          <a:xfrm>
            <a:off x="2268360" y="1125360"/>
            <a:ext cx="6551640" cy="1366920"/>
          </a:xfrm>
          <a:prstGeom prst="cloudCallout">
            <a:avLst>
              <a:gd name="adj1" fmla="val -36365"/>
              <a:gd name="adj2" fmla="val 1115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ahoma"/>
                <a:cs typeface="Monotype Koufi"/>
              </a:rPr>
              <a:t>انا فين هو انا كنت بحل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ahoma"/>
                <a:cs typeface="Monotype Koufi"/>
              </a:rPr>
              <a:t>آه امتي اسافر اشوف باب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611280" y="907920"/>
            <a:ext cx="7848360" cy="4953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أهم المراجع و المواق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تاب المدرس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http://ar.wikipedia.org/wiki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ww.magharebia.com/cocoon/awi/xhtml1/ar/date/2005-06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ttp://ecards.fares.net/ar/Around_The_World/United_Stat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428760" y="3286080"/>
            <a:ext cx="4000320" cy="32860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7"/>
          <p:cNvSpPr/>
          <p:nvPr/>
        </p:nvSpPr>
        <p:spPr>
          <a:xfrm>
            <a:off x="2268360" y="404640"/>
            <a:ext cx="6551640" cy="2592720"/>
          </a:xfrm>
          <a:prstGeom prst="cloudCallout">
            <a:avLst>
              <a:gd name="adj1" fmla="val -47018"/>
              <a:gd name="adj2" fmla="val 595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42920" y="692280"/>
            <a:ext cx="65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cs typeface="Monotype Koufi"/>
              </a:rPr>
              <a:t>وحشتني يا بابا من سا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ea typeface="Monotype Koufi"/>
              </a:rPr>
              <a:t> ما سافرت الولايات المتح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Arial Black"/>
                <a:ea typeface="Monotype Koufi"/>
              </a:rPr>
              <a:t> و انا نفسي اشوف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SLOW MUSIC - 15.mp3" descr=""/>
          <p:cNvPicPr/>
          <p:nvPr/>
        </p:nvPicPr>
        <p:blipFill>
          <a:blip r:embed="rId3"/>
          <a:stretch/>
        </p:blipFill>
        <p:spPr>
          <a:xfrm>
            <a:off x="5707080" y="3786120"/>
            <a:ext cx="222264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332000" y="40464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66"/>
                </a:solidFill>
                <a:latin typeface="Tahoma"/>
                <a:cs typeface="Old Antic Decorative"/>
              </a:rPr>
              <a:t>و فجأة ظهر بابا نويل و قال</a:t>
            </a:r>
            <a:r>
              <a:rPr b="0" lang="ar-SA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Picture 7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500280"/>
            <a:ext cx="2881440" cy="25308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9"/>
          <p:cNvSpPr/>
          <p:nvPr/>
        </p:nvSpPr>
        <p:spPr>
          <a:xfrm>
            <a:off x="4716360" y="2133720"/>
            <a:ext cx="2519640" cy="1439640"/>
          </a:xfrm>
          <a:prstGeom prst="wedgeRectCallout">
            <a:avLst>
              <a:gd name="adj1" fmla="val 32231"/>
              <a:gd name="adj2" fmla="val 8142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onotype Koufi"/>
              </a:rPr>
              <a:t>عشان عايزة اسافر اشوف باب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826920" y="2205000"/>
            <a:ext cx="3600720" cy="1511280"/>
          </a:xfrm>
          <a:prstGeom prst="cloudCallout">
            <a:avLst>
              <a:gd name="adj1" fmla="val 10624"/>
              <a:gd name="adj2" fmla="val 80356"/>
            </a:avLst>
          </a:prstGeom>
          <a:solidFill>
            <a:srgbClr val="b83d6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أنتي زعلانه لي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11" descr="untitled"/>
          <p:cNvPicPr/>
          <p:nvPr/>
        </p:nvPicPr>
        <p:blipFill>
          <a:blip r:embed="rId4"/>
          <a:stretch/>
        </p:blipFill>
        <p:spPr>
          <a:xfrm>
            <a:off x="644364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19" name="SLOW MUSIC - 09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59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6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16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16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3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3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3887640" cy="3732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j0424780"/>
          <p:cNvPicPr/>
          <p:nvPr/>
        </p:nvPicPr>
        <p:blipFill>
          <a:blip r:embed="rId4"/>
          <a:stretch/>
        </p:blipFill>
        <p:spPr>
          <a:xfrm>
            <a:off x="1619280" y="3490920"/>
            <a:ext cx="2808360" cy="26020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8"/>
          <p:cNvSpPr/>
          <p:nvPr/>
        </p:nvSpPr>
        <p:spPr>
          <a:xfrm>
            <a:off x="3286080" y="571680"/>
            <a:ext cx="5031000" cy="2357280"/>
          </a:xfrm>
          <a:prstGeom prst="cloudCallout">
            <a:avLst>
              <a:gd name="adj1" fmla="val -56287"/>
              <a:gd name="adj2" fmla="val 50662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4d"/>
                </a:solidFill>
                <a:latin typeface="Tahoma"/>
              </a:rPr>
              <a:t>ضحك و قال أنا جاي أخدك في رحلة لبابا يلا بينا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10" descr="Picture9"/>
          <p:cNvPicPr/>
          <p:nvPr/>
        </p:nvPicPr>
        <p:blipFill>
          <a:blip r:embed="rId6"/>
          <a:stretch/>
        </p:blipFill>
        <p:spPr>
          <a:xfrm>
            <a:off x="5580000" y="2781360"/>
            <a:ext cx="252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5616720" cy="3959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"/>
          <p:cNvSpPr/>
          <p:nvPr/>
        </p:nvSpPr>
        <p:spPr>
          <a:xfrm rot="21469200">
            <a:off x="5221080" y="1341360"/>
            <a:ext cx="3887640" cy="1582920"/>
          </a:xfrm>
          <a:prstGeom prst="wedgeRoundRectCallout">
            <a:avLst>
              <a:gd name="adj1" fmla="val -78962"/>
              <a:gd name="adj2" fmla="val 101935"/>
              <a:gd name="adj3" fmla="val 16667"/>
            </a:avLst>
          </a:prstGeom>
          <a:solidFill>
            <a:srgbClr val="ff0066"/>
          </a:solidFill>
          <a:ln w="76320">
            <a:solidFill>
              <a:srgbClr val="66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 Black"/>
              </a:rPr>
              <a:t>انت عارفه اتكونت ازاي الولايات المتحد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Hell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276640"/>
            <a:ext cx="4249800" cy="33843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4211640" y="981000"/>
            <a:ext cx="4032360" cy="1800360"/>
          </a:xfrm>
          <a:prstGeom prst="wedgeEllipseCallout">
            <a:avLst>
              <a:gd name="adj1" fmla="val 2675"/>
              <a:gd name="adj2" fmla="val 110138"/>
            </a:avLst>
          </a:prstGeom>
          <a:solidFill>
            <a:srgbClr val="33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</a:rPr>
              <a:t>ضحكت و هي بتقول طبعا انا خدتها في المدرس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468360" y="620640"/>
            <a:ext cx="4103640" cy="1224000"/>
          </a:xfrm>
          <a:prstGeom prst="cloudCallout">
            <a:avLst>
              <a:gd name="adj1" fmla="val 9731"/>
              <a:gd name="adj2" fmla="val 148574"/>
            </a:avLst>
          </a:prstGeom>
          <a:solidFill>
            <a:srgbClr val="33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Tahoma"/>
              </a:rPr>
              <a:t>خلاص عرفين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10" descr="j0336896"/>
          <p:cNvPicPr/>
          <p:nvPr/>
        </p:nvPicPr>
        <p:blipFill>
          <a:blip r:embed="rId4"/>
          <a:stretch/>
        </p:blipFill>
        <p:spPr>
          <a:xfrm>
            <a:off x="5745240" y="3213000"/>
            <a:ext cx="2427120" cy="2686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j0233148"/>
          <p:cNvPicPr/>
          <p:nvPr/>
        </p:nvPicPr>
        <p:blipFill>
          <a:blip r:embed="rId1"/>
          <a:stretch/>
        </p:blipFill>
        <p:spPr>
          <a:xfrm>
            <a:off x="395280" y="1916280"/>
            <a:ext cx="2522520" cy="25765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468360" y="4797360"/>
            <a:ext cx="82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مت الحرب بين الأمريكيين وإنجلترا حين فرضت إنجلترا الضرائب والرسوم الجمركية و أعلنت الولاي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1835280" y="260280"/>
            <a:ext cx="6948360" cy="302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دفق الأوربيون إلي القارة الجديد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ي القرن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خاصة الإنجلي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قام الأوربيون المستعمرات في الشر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تى وصل عددها إل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لا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تتبع بريطاني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XFILE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3276720" y="765000"/>
            <a:ext cx="489564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قامت الحرب الأهلية لمدة خمس سنوات بين ولايات الشمال والجنوب بسبب تحرير الرقيق  وإلغاء العبودية حيث كانت ولايات الجنوب تعتمد على الزنوج و العبيد في الزراعة 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أعلن أبرا هام لنكولن إلغاء الرق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و المساواة بين البيض والسود</a:t>
            </a:r>
            <a:r>
              <a:rPr b="1" lang="ar-EG" sz="3200" spc="-1" strike="noStrike">
                <a:solidFill>
                  <a:srgbClr val="ffcc00"/>
                </a:solidFill>
                <a:latin typeface="Tahoma"/>
              </a:rPr>
              <a:t> و الدستور الأمريكي ينص علي المساو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4"/>
          <p:cNvSpPr/>
          <p:nvPr/>
        </p:nvSpPr>
        <p:spPr>
          <a:xfrm>
            <a:off x="468360" y="765000"/>
            <a:ext cx="3095640" cy="1511640"/>
          </a:xfrm>
          <a:prstGeom prst="cloudCallout">
            <a:avLst>
              <a:gd name="adj1" fmla="val 14361"/>
              <a:gd name="adj2" fmla="val 14275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ahoma"/>
              </a:rPr>
              <a:t>انتي عارفة اول رئيس للولايات المتحد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643280" y="476280"/>
            <a:ext cx="3529080" cy="719280"/>
          </a:xfrm>
          <a:prstGeom prst="wedgeRoundRectCallout">
            <a:avLst>
              <a:gd name="adj1" fmla="val 17430"/>
              <a:gd name="adj2" fmla="val 267879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ahoma"/>
              </a:rPr>
              <a:t>طبعا جورج واشنط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6" descr="j0336896"/>
          <p:cNvPicPr/>
          <p:nvPr/>
        </p:nvPicPr>
        <p:blipFill>
          <a:blip r:embed="rId1"/>
          <a:stretch/>
        </p:blipFill>
        <p:spPr>
          <a:xfrm>
            <a:off x="6084720" y="3284640"/>
            <a:ext cx="2427480" cy="2685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Picture2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97360"/>
            <a:ext cx="4249800" cy="33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492px-Portrait_of_George_Washington[1]"/>
          <p:cNvPicPr/>
          <p:nvPr/>
        </p:nvPicPr>
        <p:blipFill>
          <a:blip r:embed="rId4"/>
          <a:stretch/>
        </p:blipFill>
        <p:spPr>
          <a:xfrm>
            <a:off x="4067280" y="1773360"/>
            <a:ext cx="194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1:21:48Z</dcterms:created>
  <dc:creator>MOE</dc:creator>
  <dc:description/>
  <dc:language>en-US</dc:language>
  <cp:lastModifiedBy>MK</cp:lastModifiedBy>
  <dcterms:modified xsi:type="dcterms:W3CDTF">2007-09-23T21:50:10Z</dcterms:modified>
  <cp:revision>31</cp:revision>
  <dc:subject/>
  <dc:title>Slide 1</dc:title>
</cp:coreProperties>
</file>